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20C-E82F-47F3-A3E3-2DDD4683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375-15DC-4C41-A96A-98539A0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9F7-8B0B-4330-9035-CE71B90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835-6998-4270-ACD9-D9455D57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4B04-737B-450F-8173-8C772056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39B0-4A7A-4651-A892-DE2E655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7C56-629D-43B7-8AA3-280DEB45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5A11-3ACD-4375-8739-7FC9DDD3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C515-2C2D-4918-995C-2594CBB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DE4-2AB5-47D2-916F-13F3E206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D14-8883-48DE-B5BB-1A15F9B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5A6-4A91-4DE7-8A56-BB89CF3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22B-5594-4A1D-9E00-673765C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0187-683B-4196-BDC4-FDEF08A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7A0A-EFC0-4F2A-B614-F470AEFF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F2DE-6F75-4723-B877-080F1D1D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30F-95C3-41F0-8CF3-DDA3ADAA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81B-3818-4E36-B5D1-CDB09B6C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F38-5D35-45BA-A09C-FF88A3D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996-AFFA-485A-A46E-AE19C571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E0C-6592-42DE-A65D-987A44AB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F3B-9471-4A40-BACC-FCBA5C0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68F-D3D2-4D46-8EC5-F3DD4D5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DFF-FF62-44D0-9E1A-306A87B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B88-2C83-43A7-AC2E-665E82BB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266-9D16-47D3-AD5F-F560FBEEA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Dow Jones Industrial Averag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9343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e Dow Jones Industrial Averag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w Jones Industrial Average tracks the stocks of 30 of the largest and most widely held companies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nsidered by many financial analysts to be the most important world stock indic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6019920" y="3562200"/>
            <a:ext cx="3152520" cy="144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of these companies include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226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-M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Donald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Dep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xon-Mob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 Dis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505320" y="817560"/>
            <a:ext cx="1442880" cy="112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5410080" y="86832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7543800" y="817560"/>
            <a:ext cx="1143000" cy="154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124080" y="228600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6019920" y="2133720"/>
            <a:ext cx="1295280" cy="13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2917800" y="4419720"/>
            <a:ext cx="3165480" cy="189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8"/>
          <a:stretch/>
        </p:blipFill>
        <p:spPr>
          <a:xfrm>
            <a:off x="6541920" y="5140440"/>
            <a:ext cx="21448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ow Jones Average 1900-2010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48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is the average calculat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JIA is calculated by adding the sum stock values of the 30 companies listed in the index and dividing the sum by an established divi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rrent divisor is .01255527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divisor is less than one it actually serves as a multip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ic Hig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46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DJIA reached an historic high on October 9, 2007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closed at </a:t>
            </a: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14,164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2558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Dow Toda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69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JIA  was at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12,965.0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s of the closing bell yester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 of the Dow J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going to watch a video that talks about the origins of the Dow Jones Industrial Average and provides an economic history of the nation from the late 1800’s until the mid-1990’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video, we will focus upon invest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06:10Z</dcterms:created>
  <dc:creator>Sys Admin</dc:creator>
  <dc:description/>
  <dc:language>en-US</dc:language>
  <cp:lastModifiedBy>SysAdmin</cp:lastModifiedBy>
  <dcterms:modified xsi:type="dcterms:W3CDTF">2012-02-21T14:41:59Z</dcterms:modified>
  <cp:revision>31</cp:revision>
  <dc:subject/>
  <dc:title>What’s Going On With the Economy?</dc:title>
</cp:coreProperties>
</file>